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"/>
          </p:nvPr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2"/>
          </p:nvPr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3"/>
          </p:nvPr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11188D8-7BCD-4B39-95E4-940C54E5245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859840" y="8836200"/>
            <a:ext cx="12747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9C5C390C-5A3A-4DD9-8333-E8873B0AF6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Img"/>
          </p:nvPr>
        </p:nvSpPr>
        <p:spPr>
          <a:xfrm>
            <a:off x="1184040" y="701280"/>
            <a:ext cx="462276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6A22802-A6A5-408F-BC04-3539430A71B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7B0ACF6-B562-4A3F-8DD9-D99E39BB88A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97000" y="711360"/>
            <a:ext cx="4597200" cy="34477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7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C7EB40E-4FBD-4900-8925-48EACB06A50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97000" y="711360"/>
            <a:ext cx="4597200" cy="34477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7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7E37066-9360-490B-AB87-9AC2A8596B8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97000" y="711360"/>
            <a:ext cx="4597200" cy="34477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7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E8C2E28-F5D4-44D2-8247-282729CF8A6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y animate this diagram to introduce the pieces one at a time (new reused la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37EB2B4-AD21-4E91-A5DD-9B94BD03A01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97000" y="711360"/>
            <a:ext cx="4597200" cy="34477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7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F82A701-48DC-4DBC-B5D5-B18D2BD8EA4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97000" y="711360"/>
            <a:ext cx="4597200" cy="34477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7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FB50D75-64DA-4B35-9DE3-3491C73AD63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97000" y="711360"/>
            <a:ext cx="4597200" cy="34477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7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394D9F0-FA57-4032-A431-3A5FDB29BBC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97000" y="711360"/>
            <a:ext cx="4597200" cy="34477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7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BD6BF7D-3E41-4601-8464-EBF3CB432C2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97000" y="711360"/>
            <a:ext cx="4597200" cy="34477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7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314A99D-5B45-4C01-98D0-89EB4E56A75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97000" y="711360"/>
            <a:ext cx="4597200" cy="34477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7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04C46CB-EE92-426A-8FC7-FE879F0496E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0718612-E4D5-41C1-A030-2C2976E39FD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97000" y="711360"/>
            <a:ext cx="4597200" cy="34477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7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96F2A40-C361-403F-9585-F49294090D5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97000" y="711360"/>
            <a:ext cx="4597200" cy="34477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7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77B2D45-4361-43AF-8373-0D3197D8873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97000" y="711360"/>
            <a:ext cx="4597200" cy="34477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7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990BC9D-B037-4C38-8E21-C3D7077204A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97000" y="711360"/>
            <a:ext cx="4597200" cy="34477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7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FA9597D-C132-442E-AC6F-76A2F449F85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97000" y="711360"/>
            <a:ext cx="4597200" cy="34477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7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D18A33B-2DCB-49F8-8336-3038C46A2EC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97000" y="711360"/>
            <a:ext cx="4597200" cy="34477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7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70A2301-424C-477E-8993-24453D38605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97000" y="711360"/>
            <a:ext cx="4597200" cy="34477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7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39276F9D-2448-4390-A3DD-496D16872D8C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6EC926E6-A05C-4E72-892C-2509C4883A78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9280" y="9014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br>
              <a:rPr sz="4800"/>
            </a:b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br>
              <a:rPr sz="48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 </a:t>
            </a:r>
            <a:br>
              <a:rPr sz="3600"/>
            </a:b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utorial: Using PSP0.1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776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ding and Counting Standard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01720" y="1450800"/>
            <a:ext cx="76010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ing and LOC counting standards are needed to write the PSP progra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standards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ilored to your language and nee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ed to make LOC counting easi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oding standard defines quality-oriented exit criteria for the code ph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 Software Size Measur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01720" y="1450800"/>
            <a:ext cx="7842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PSP, software size measures are used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ate the amount of product produced with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ffort expended to project total eff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ulate productiv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rmalize def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 the total def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size is measured in LO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accurately relate size to effort, the different types of LOC in your program are counted separate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0.1 Project Plan Summary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08200" y="1434960"/>
            <a:ext cx="39290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0.1 adds estimated and actual LOC in summary for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Aft>
                <a:spcPts val="876"/>
              </a:spcAft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ypes of LOC incl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7880" indent="-279360">
              <a:buClr>
                <a:srgbClr val="ffffff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 [B]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7880" indent="-279360">
              <a:buClr>
                <a:srgbClr val="ffffff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eted base [D]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7880" indent="-279360">
              <a:buClr>
                <a:srgbClr val="ffffff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ified base [M]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7880" indent="-279360">
              <a:buClr>
                <a:srgbClr val="ffffff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ed–new and base [A]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7880" indent="-279360">
              <a:buClr>
                <a:srgbClr val="ffffff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used [R]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7880" indent="-279360">
              <a:buClr>
                <a:srgbClr val="ffffff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tal new and changed [N]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7880" indent="-279360">
              <a:buClr>
                <a:srgbClr val="ffffff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tal new re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Object 5"/>
          <p:cNvGraphicFramePr/>
          <p:nvPr/>
        </p:nvGraphicFramePr>
        <p:xfrm>
          <a:off x="5078520" y="1530360"/>
          <a:ext cx="3063600" cy="43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8520" y="1530360"/>
                    <a:ext cx="3063600" cy="4383000"/>
                  </a:xfrm>
                  <a:prstGeom prst="rect">
                    <a:avLst/>
                  </a:prstGeom>
                  <a:ln w="2556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Oval 6"/>
          <p:cNvSpPr/>
          <p:nvPr/>
        </p:nvSpPr>
        <p:spPr>
          <a:xfrm>
            <a:off x="2854440" y="2487600"/>
            <a:ext cx="3555720" cy="3532320"/>
          </a:xfrm>
          <a:prstGeom prst="ellipse">
            <a:avLst/>
          </a:prstGeom>
          <a:solidFill>
            <a:srgbClr val="99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4" name="Oval 3"/>
          <p:cNvSpPr/>
          <p:nvPr/>
        </p:nvSpPr>
        <p:spPr>
          <a:xfrm>
            <a:off x="1079640" y="2487600"/>
            <a:ext cx="3555720" cy="3532320"/>
          </a:xfrm>
          <a:prstGeom prst="ellipse">
            <a:avLst/>
          </a:prstGeom>
          <a:solidFill>
            <a:srgbClr val="96969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5" name="Oval 4"/>
          <p:cNvSpPr/>
          <p:nvPr/>
        </p:nvSpPr>
        <p:spPr>
          <a:xfrm>
            <a:off x="2854440" y="2487600"/>
            <a:ext cx="3555720" cy="3532320"/>
          </a:xfrm>
          <a:prstGeom prst="ellipse">
            <a:avLst/>
          </a:prstGeom>
          <a:solidFill>
            <a:srgbClr val="99ff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6" name="Freeform 21"/>
          <p:cNvSpPr/>
          <p:nvPr/>
        </p:nvSpPr>
        <p:spPr>
          <a:xfrm>
            <a:off x="3746520" y="4254480"/>
            <a:ext cx="2666880" cy="1765440"/>
          </a:xfrm>
          <a:custGeom>
            <a:avLst/>
            <a:gdLst/>
            <a:ahLst/>
            <a:rect l="l" t="t" r="r" b="b"/>
            <a:pathLst>
              <a:path w="1680" h="1112">
                <a:moveTo>
                  <a:pt x="560" y="0"/>
                </a:moveTo>
                <a:lnTo>
                  <a:pt x="1680" y="0"/>
                </a:lnTo>
                <a:lnTo>
                  <a:pt x="1680" y="72"/>
                </a:lnTo>
                <a:lnTo>
                  <a:pt x="1672" y="184"/>
                </a:lnTo>
                <a:lnTo>
                  <a:pt x="1664" y="244"/>
                </a:lnTo>
                <a:lnTo>
                  <a:pt x="1652" y="316"/>
                </a:lnTo>
                <a:lnTo>
                  <a:pt x="1632" y="376"/>
                </a:lnTo>
                <a:lnTo>
                  <a:pt x="1600" y="456"/>
                </a:lnTo>
                <a:lnTo>
                  <a:pt x="1556" y="524"/>
                </a:lnTo>
                <a:lnTo>
                  <a:pt x="1516" y="600"/>
                </a:lnTo>
                <a:lnTo>
                  <a:pt x="1472" y="656"/>
                </a:lnTo>
                <a:lnTo>
                  <a:pt x="1440" y="704"/>
                </a:lnTo>
                <a:lnTo>
                  <a:pt x="1392" y="744"/>
                </a:lnTo>
                <a:lnTo>
                  <a:pt x="1352" y="784"/>
                </a:lnTo>
                <a:lnTo>
                  <a:pt x="1288" y="848"/>
                </a:lnTo>
                <a:lnTo>
                  <a:pt x="1216" y="904"/>
                </a:lnTo>
                <a:lnTo>
                  <a:pt x="1168" y="928"/>
                </a:lnTo>
                <a:lnTo>
                  <a:pt x="1120" y="968"/>
                </a:lnTo>
                <a:lnTo>
                  <a:pt x="1048" y="1000"/>
                </a:lnTo>
                <a:lnTo>
                  <a:pt x="992" y="1032"/>
                </a:lnTo>
                <a:lnTo>
                  <a:pt x="896" y="1064"/>
                </a:lnTo>
                <a:lnTo>
                  <a:pt x="832" y="1080"/>
                </a:lnTo>
                <a:lnTo>
                  <a:pt x="776" y="1096"/>
                </a:lnTo>
                <a:lnTo>
                  <a:pt x="720" y="1104"/>
                </a:lnTo>
                <a:lnTo>
                  <a:pt x="648" y="1112"/>
                </a:lnTo>
                <a:lnTo>
                  <a:pt x="576" y="1112"/>
                </a:lnTo>
                <a:lnTo>
                  <a:pt x="468" y="1112"/>
                </a:lnTo>
                <a:lnTo>
                  <a:pt x="376" y="1104"/>
                </a:lnTo>
                <a:lnTo>
                  <a:pt x="288" y="1084"/>
                </a:lnTo>
                <a:lnTo>
                  <a:pt x="216" y="1060"/>
                </a:lnTo>
                <a:lnTo>
                  <a:pt x="160" y="1040"/>
                </a:lnTo>
                <a:lnTo>
                  <a:pt x="96" y="1016"/>
                </a:lnTo>
                <a:lnTo>
                  <a:pt x="44" y="988"/>
                </a:lnTo>
                <a:lnTo>
                  <a:pt x="0" y="960"/>
                </a:lnTo>
                <a:lnTo>
                  <a:pt x="68" y="920"/>
                </a:lnTo>
                <a:lnTo>
                  <a:pt x="144" y="872"/>
                </a:lnTo>
                <a:lnTo>
                  <a:pt x="200" y="816"/>
                </a:lnTo>
                <a:lnTo>
                  <a:pt x="264" y="748"/>
                </a:lnTo>
                <a:lnTo>
                  <a:pt x="324" y="688"/>
                </a:lnTo>
                <a:lnTo>
                  <a:pt x="376" y="620"/>
                </a:lnTo>
                <a:lnTo>
                  <a:pt x="424" y="540"/>
                </a:lnTo>
                <a:lnTo>
                  <a:pt x="448" y="480"/>
                </a:lnTo>
                <a:lnTo>
                  <a:pt x="480" y="408"/>
                </a:lnTo>
                <a:lnTo>
                  <a:pt x="512" y="352"/>
                </a:lnTo>
                <a:lnTo>
                  <a:pt x="528" y="288"/>
                </a:lnTo>
                <a:lnTo>
                  <a:pt x="544" y="224"/>
                </a:lnTo>
                <a:lnTo>
                  <a:pt x="552" y="192"/>
                </a:lnTo>
                <a:lnTo>
                  <a:pt x="556" y="136"/>
                </a:lnTo>
                <a:lnTo>
                  <a:pt x="564" y="60"/>
                </a:lnTo>
                <a:lnTo>
                  <a:pt x="560" y="0"/>
                </a:lnTo>
                <a:close/>
              </a:path>
            </a:pathLst>
          </a:custGeom>
          <a:solidFill>
            <a:srgbClr val="57ccf1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ypes of Program LOC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2857680" y="4254480"/>
            <a:ext cx="3543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6603840" y="2487600"/>
            <a:ext cx="685800" cy="1754280"/>
          </a:xfrm>
          <a:custGeom>
            <a:avLst/>
            <a:gdLst>
              <a:gd name="textAreaLeft" fmla="*/ 0 w 685800"/>
              <a:gd name="textAreaRight" fmla="*/ 247680 w 685800"/>
              <a:gd name="textAreaTop" fmla="*/ 45720 h 1754280"/>
              <a:gd name="textAreaBottom" fmla="*/ 1708560 h 175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7404120" y="302256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&amp; Changed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1054080" y="1714680"/>
            <a:ext cx="23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e program</a:t>
            </a: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4483080" y="1714680"/>
            <a:ext cx="25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program</a:t>
            </a: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1397160" y="405144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eted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5025960" y="3606840"/>
            <a:ext cx="12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5" name="Freeform 14"/>
          <p:cNvSpPr/>
          <p:nvPr/>
        </p:nvSpPr>
        <p:spPr>
          <a:xfrm>
            <a:off x="2857680" y="4254480"/>
            <a:ext cx="1777680" cy="1536840"/>
          </a:xfrm>
          <a:custGeom>
            <a:avLst/>
            <a:gdLst/>
            <a:ahLst/>
            <a:rect l="l" t="t" r="r" b="b"/>
            <a:pathLst>
              <a:path w="1120" h="968">
                <a:moveTo>
                  <a:pt x="0" y="0"/>
                </a:moveTo>
                <a:lnTo>
                  <a:pt x="1120" y="0"/>
                </a:lnTo>
                <a:lnTo>
                  <a:pt x="1112" y="112"/>
                </a:lnTo>
                <a:lnTo>
                  <a:pt x="1104" y="244"/>
                </a:lnTo>
                <a:lnTo>
                  <a:pt x="1064" y="408"/>
                </a:lnTo>
                <a:lnTo>
                  <a:pt x="984" y="552"/>
                </a:lnTo>
                <a:lnTo>
                  <a:pt x="908" y="676"/>
                </a:lnTo>
                <a:lnTo>
                  <a:pt x="848" y="740"/>
                </a:lnTo>
                <a:lnTo>
                  <a:pt x="784" y="804"/>
                </a:lnTo>
                <a:lnTo>
                  <a:pt x="728" y="852"/>
                </a:lnTo>
                <a:lnTo>
                  <a:pt x="668" y="900"/>
                </a:lnTo>
                <a:lnTo>
                  <a:pt x="616" y="932"/>
                </a:lnTo>
                <a:lnTo>
                  <a:pt x="560" y="968"/>
                </a:lnTo>
                <a:lnTo>
                  <a:pt x="464" y="904"/>
                </a:lnTo>
                <a:lnTo>
                  <a:pt x="384" y="852"/>
                </a:lnTo>
                <a:lnTo>
                  <a:pt x="328" y="792"/>
                </a:lnTo>
                <a:lnTo>
                  <a:pt x="256" y="732"/>
                </a:lnTo>
                <a:lnTo>
                  <a:pt x="192" y="644"/>
                </a:lnTo>
                <a:lnTo>
                  <a:pt x="136" y="540"/>
                </a:lnTo>
                <a:lnTo>
                  <a:pt x="84" y="444"/>
                </a:lnTo>
                <a:lnTo>
                  <a:pt x="52" y="352"/>
                </a:lnTo>
                <a:lnTo>
                  <a:pt x="32" y="264"/>
                </a:lnTo>
                <a:lnTo>
                  <a:pt x="16" y="204"/>
                </a:lnTo>
                <a:lnTo>
                  <a:pt x="8" y="128"/>
                </a:lnTo>
                <a:lnTo>
                  <a:pt x="8" y="5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3070080" y="459756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touched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3083040" y="36320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198" name="Group 20"/>
          <p:cNvGrpSpPr/>
          <p:nvPr/>
        </p:nvGrpSpPr>
        <p:grpSpPr>
          <a:xfrm>
            <a:off x="4432320" y="2629080"/>
            <a:ext cx="1025280" cy="1028520"/>
            <a:chOff x="4432320" y="2629080"/>
            <a:chExt cx="1025280" cy="1028520"/>
          </a:xfrm>
        </p:grpSpPr>
        <p:sp>
          <p:nvSpPr>
            <p:cNvPr id="199" name="Oval 17"/>
            <p:cNvSpPr/>
            <p:nvPr/>
          </p:nvSpPr>
          <p:spPr>
            <a:xfrm>
              <a:off x="4432320" y="2629080"/>
              <a:ext cx="1003320" cy="10285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0" name="Text Box 18"/>
            <p:cNvSpPr/>
            <p:nvPr/>
          </p:nvSpPr>
          <p:spPr>
            <a:xfrm>
              <a:off x="4441680" y="2743200"/>
              <a:ext cx="101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w Reused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201" name="Text Box 13"/>
          <p:cNvSpPr/>
          <p:nvPr/>
        </p:nvSpPr>
        <p:spPr>
          <a:xfrm>
            <a:off x="4911840" y="459756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used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0.1 Project Plan Summary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20800" y="1472760"/>
            <a:ext cx="7680240" cy="11970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31000"/>
          </a:bodyPr>
          <a:p>
            <a:pPr>
              <a:lnSpc>
                <a:spcPct val="85000"/>
              </a:lnSpc>
              <a:spcAft>
                <a:spcPts val="876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fore develop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4040" indent="-6444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is is an enhancement, measure the size of the base program and enter these LOC in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Bas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B) space under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4040" indent="-64440">
              <a:lnSpc>
                <a:spcPct val="85000"/>
              </a:lnSpc>
              <a:spcAft>
                <a:spcPts val="876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4040" indent="-64440">
              <a:lnSpc>
                <a:spcPct val="85000"/>
              </a:lnSpc>
              <a:spcAft>
                <a:spcPts val="876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4040" indent="-64440">
              <a:lnSpc>
                <a:spcPct val="85000"/>
              </a:lnSpc>
              <a:spcAft>
                <a:spcPts val="876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4040" indent="-64440">
              <a:lnSpc>
                <a:spcPct val="85000"/>
              </a:lnSpc>
              <a:spcAft>
                <a:spcPts val="876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4040" indent="-64440">
              <a:lnSpc>
                <a:spcPct val="85000"/>
              </a:lnSpc>
              <a:spcAft>
                <a:spcPts val="876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4040" indent="-64440">
              <a:lnSpc>
                <a:spcPct val="85000"/>
              </a:lnSpc>
              <a:spcAft>
                <a:spcPts val="876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4040" indent="-64440">
              <a:lnSpc>
                <a:spcPct val="85000"/>
              </a:lnSpc>
              <a:spcAft>
                <a:spcPts val="876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4040" indent="-6444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 the new and changed LOC and enter these LOC in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otal New &amp; Chang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N) space under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la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1263600" y="2786040"/>
            <a:ext cx="5892840" cy="2260800"/>
          </a:xfrm>
          <a:prstGeom prst="rect">
            <a:avLst/>
          </a:prstGeom>
          <a:ln w="0">
            <a:noFill/>
          </a:ln>
        </p:spPr>
      </p:pic>
      <p:sp>
        <p:nvSpPr>
          <p:cNvPr id="205" name="Line 5"/>
          <p:cNvSpPr/>
          <p:nvPr/>
        </p:nvSpPr>
        <p:spPr>
          <a:xfrm flipH="1">
            <a:off x="5423040" y="2432160"/>
            <a:ext cx="1908000" cy="476280"/>
          </a:xfrm>
          <a:prstGeom prst="line">
            <a:avLst/>
          </a:prstGeom>
          <a:ln w="25560">
            <a:solidFill>
              <a:srgbClr val="3399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6" name="Line 6"/>
          <p:cNvSpPr/>
          <p:nvPr/>
        </p:nvSpPr>
        <p:spPr>
          <a:xfrm flipH="1">
            <a:off x="1390680" y="4336920"/>
            <a:ext cx="2819520" cy="790560"/>
          </a:xfrm>
          <a:prstGeom prst="line">
            <a:avLst/>
          </a:prstGeom>
          <a:ln w="25560">
            <a:solidFill>
              <a:srgbClr val="3399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Object 9"/>
          <p:cNvGraphicFramePr/>
          <p:nvPr/>
        </p:nvGraphicFramePr>
        <p:xfrm>
          <a:off x="5230800" y="1535040"/>
          <a:ext cx="3063960" cy="43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0800" y="1535040"/>
                    <a:ext cx="3063960" cy="4383000"/>
                  </a:xfrm>
                  <a:prstGeom prst="rect">
                    <a:avLst/>
                  </a:prstGeom>
                  <a:ln w="2556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0.1 Project Plan Summary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22320" y="1447920"/>
            <a:ext cx="39290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fore development, distribute development time over project phases, using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o Date %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ime in Phas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previous progra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Aft>
                <a:spcPts val="876"/>
              </a:spcAft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5"/>
          <p:cNvSpPr/>
          <p:nvPr/>
        </p:nvSpPr>
        <p:spPr>
          <a:xfrm>
            <a:off x="6426360" y="3562200"/>
            <a:ext cx="380880" cy="679680"/>
          </a:xfrm>
          <a:prstGeom prst="ellipse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2" name="Arc 8"/>
          <p:cNvSpPr/>
          <p:nvPr/>
        </p:nvSpPr>
        <p:spPr>
          <a:xfrm>
            <a:off x="2263680" y="2614680"/>
            <a:ext cx="4044960" cy="1352520"/>
          </a:xfrm>
          <a:custGeom>
            <a:avLst/>
            <a:gdLst/>
            <a:ahLst/>
            <a:rect l="l" t="t" r="r" b="b"/>
            <a:pathLst>
              <a:path fill="none" w="21600" h="24852">
                <a:moveTo>
                  <a:pt x="20912" y="24852"/>
                </a:moveTo>
                <a:cubicBezTo>
                  <a:pt x="9257" y="24481"/>
                  <a:pt x="0" y="14924"/>
                  <a:pt x="0" y="3263"/>
                </a:cubicBezTo>
                <a:cubicBezTo>
                  <a:pt x="-1" y="2170"/>
                  <a:pt x="82" y="1079"/>
                  <a:pt x="247" y="-1"/>
                </a:cubicBezTo>
              </a:path>
              <a:path stroke="0" w="21600" h="24852">
                <a:moveTo>
                  <a:pt x="20912" y="24852"/>
                </a:moveTo>
                <a:cubicBezTo>
                  <a:pt x="9257" y="24481"/>
                  <a:pt x="0" y="14924"/>
                  <a:pt x="0" y="3263"/>
                </a:cubicBezTo>
                <a:cubicBezTo>
                  <a:pt x="-1" y="2170"/>
                  <a:pt x="82" y="1079"/>
                  <a:pt x="247" y="-1"/>
                </a:cubicBezTo>
                <a:lnTo>
                  <a:pt x="21600" y="3263"/>
                </a:lnTo>
                <a:lnTo>
                  <a:pt x="20912" y="24852"/>
                </a:lnTo>
                <a:close/>
              </a:path>
            </a:pathLst>
          </a:custGeom>
          <a:noFill/>
          <a:ln cap="rnd" w="25560">
            <a:solidFill>
              <a:srgbClr val="3399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706400" y="3863880"/>
            <a:ext cx="5892840" cy="22608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0.1 Project Plan Summary -4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69680" y="1434960"/>
            <a:ext cx="64753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develop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7880" indent="-126720">
              <a:buClr>
                <a:srgbClr val="ffffff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asure total program size and enter these LOC in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otal LOC (T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pace under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7880" indent="-126720">
              <a:buClr>
                <a:srgbClr val="ffffff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t the deleted LOC and enter in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eleted (D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pace under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7880" indent="-126720">
              <a:buClr>
                <a:srgbClr val="ffffff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t the modified LOC and enter in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odified (M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pace under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5"/>
          <p:cNvSpPr/>
          <p:nvPr/>
        </p:nvSpPr>
        <p:spPr>
          <a:xfrm flipH="1">
            <a:off x="6083280" y="2816280"/>
            <a:ext cx="1711440" cy="2795400"/>
          </a:xfrm>
          <a:prstGeom prst="line">
            <a:avLst/>
          </a:prstGeom>
          <a:ln w="25560">
            <a:solidFill>
              <a:srgbClr val="3399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7" name="Line 6"/>
          <p:cNvSpPr/>
          <p:nvPr/>
        </p:nvSpPr>
        <p:spPr>
          <a:xfrm flipH="1">
            <a:off x="6190920" y="4351320"/>
            <a:ext cx="306360" cy="0"/>
          </a:xfrm>
          <a:prstGeom prst="line">
            <a:avLst/>
          </a:prstGeom>
          <a:ln w="25560">
            <a:solidFill>
              <a:srgbClr val="3399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8" name="Line 7"/>
          <p:cNvSpPr/>
          <p:nvPr/>
        </p:nvSpPr>
        <p:spPr>
          <a:xfrm flipV="1">
            <a:off x="7805880" y="2224080"/>
            <a:ext cx="0" cy="61272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9" name="Line 8"/>
          <p:cNvSpPr/>
          <p:nvPr/>
        </p:nvSpPr>
        <p:spPr>
          <a:xfrm flipH="1" flipV="1">
            <a:off x="6161040" y="2209680"/>
            <a:ext cx="1649520" cy="1296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0" name="Line 9"/>
          <p:cNvSpPr/>
          <p:nvPr/>
        </p:nvSpPr>
        <p:spPr>
          <a:xfrm>
            <a:off x="4141800" y="2867040"/>
            <a:ext cx="236052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1" name="Line 10"/>
          <p:cNvSpPr/>
          <p:nvPr/>
        </p:nvSpPr>
        <p:spPr>
          <a:xfrm>
            <a:off x="6492960" y="2868480"/>
            <a:ext cx="3240" cy="148428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2" name="Line 11"/>
          <p:cNvSpPr/>
          <p:nvPr/>
        </p:nvSpPr>
        <p:spPr>
          <a:xfrm>
            <a:off x="4789440" y="3600360"/>
            <a:ext cx="1262160" cy="1009800"/>
          </a:xfrm>
          <a:prstGeom prst="line">
            <a:avLst/>
          </a:prstGeom>
          <a:ln w="25560">
            <a:solidFill>
              <a:srgbClr val="3399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0.1 Project Plan Summary -5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01720" y="1461600"/>
            <a:ext cx="3813120" cy="481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fter development (continu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1192320" y="2878200"/>
            <a:ext cx="5892840" cy="226044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V="1">
            <a:off x="5092560" y="4889160"/>
            <a:ext cx="381240" cy="330120"/>
          </a:xfrm>
          <a:prstGeom prst="line">
            <a:avLst/>
          </a:prstGeom>
          <a:ln w="25560">
            <a:solidFill>
              <a:srgbClr val="3399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7" name="Line 6"/>
          <p:cNvSpPr/>
          <p:nvPr/>
        </p:nvSpPr>
        <p:spPr>
          <a:xfrm flipV="1">
            <a:off x="4140360" y="4495320"/>
            <a:ext cx="850680" cy="825480"/>
          </a:xfrm>
          <a:prstGeom prst="line">
            <a:avLst/>
          </a:prstGeom>
          <a:ln w="25560">
            <a:solidFill>
              <a:srgbClr val="3399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8" name="Line 7"/>
          <p:cNvSpPr/>
          <p:nvPr/>
        </p:nvSpPr>
        <p:spPr>
          <a:xfrm flipH="1">
            <a:off x="5652720" y="2933640"/>
            <a:ext cx="227160" cy="1206720"/>
          </a:xfrm>
          <a:prstGeom prst="line">
            <a:avLst/>
          </a:prstGeom>
          <a:ln w="25560">
            <a:solidFill>
              <a:srgbClr val="3399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9" name="Line 8"/>
          <p:cNvSpPr/>
          <p:nvPr/>
        </p:nvSpPr>
        <p:spPr>
          <a:xfrm>
            <a:off x="3149640" y="2565360"/>
            <a:ext cx="2031840" cy="1346400"/>
          </a:xfrm>
          <a:prstGeom prst="line">
            <a:avLst/>
          </a:prstGeom>
          <a:ln w="25560">
            <a:solidFill>
              <a:srgbClr val="3399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898560" y="2119320"/>
            <a:ext cx="2892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culate the added LOC as A = T - B + D - R. 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906480" y="5175360"/>
            <a:ext cx="3544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culate the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ew and Changed LOC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s N = A + M. 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2" name="Rectangle 11"/>
          <p:cNvSpPr/>
          <p:nvPr/>
        </p:nvSpPr>
        <p:spPr>
          <a:xfrm>
            <a:off x="5722920" y="2165400"/>
            <a:ext cx="3166920" cy="8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nt the reused LOC and enter in the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eused (R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pace under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ctu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3" name="Rectangle 12"/>
          <p:cNvSpPr/>
          <p:nvPr/>
        </p:nvSpPr>
        <p:spPr>
          <a:xfrm>
            <a:off x="4910040" y="5197320"/>
            <a:ext cx="3538800" cy="10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nt or estimate the number of new and changed LOC that will be added to the reuse library.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0.1 Project Plan Summary -6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93360" y="1498680"/>
            <a:ext cx="7559640" cy="25653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77840" indent="-63360">
              <a:lnSpc>
                <a:spcPct val="85000"/>
              </a:lnSpc>
              <a:spcAft>
                <a:spcPts val="876"/>
              </a:spcAft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development 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7840" indent="-63360">
              <a:lnSpc>
                <a:spcPct val="85000"/>
              </a:lnSpc>
              <a:spcAft>
                <a:spcPts val="876"/>
              </a:spcAft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0.1 adds the actual reused, new and changed, total, and total new reuse LOC from this and all previous programs, and enter these data in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o Dat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olum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906480" y="3525840"/>
            <a:ext cx="5892840" cy="2260440"/>
          </a:xfrm>
          <a:prstGeom prst="rect">
            <a:avLst/>
          </a:prstGeom>
          <a:ln w="0">
            <a:noFill/>
          </a:ln>
        </p:spPr>
      </p:pic>
      <p:sp>
        <p:nvSpPr>
          <p:cNvPr id="237" name="Arc 5"/>
          <p:cNvSpPr/>
          <p:nvPr/>
        </p:nvSpPr>
        <p:spPr>
          <a:xfrm>
            <a:off x="5716440" y="2693880"/>
            <a:ext cx="598680" cy="2247840"/>
          </a:xfrm>
          <a:custGeom>
            <a:avLst/>
            <a:gdLst/>
            <a:ahLst/>
            <a:rect l="l" t="t" r="r" b="b"/>
            <a:pathLst>
              <a:path fill="none" w="24451" h="21600">
                <a:moveTo>
                  <a:pt x="-1" y="188"/>
                </a:moveTo>
                <a:cubicBezTo>
                  <a:pt x="945" y="63"/>
                  <a:pt x="1897" y="-1"/>
                  <a:pt x="2851" y="0"/>
                </a:cubicBezTo>
                <a:cubicBezTo>
                  <a:pt x="14780" y="0"/>
                  <a:pt x="24451" y="9670"/>
                  <a:pt x="24451" y="21600"/>
                </a:cubicBezTo>
              </a:path>
              <a:path stroke="0" w="24451" h="21600">
                <a:moveTo>
                  <a:pt x="-1" y="188"/>
                </a:moveTo>
                <a:cubicBezTo>
                  <a:pt x="945" y="63"/>
                  <a:pt x="1897" y="-1"/>
                  <a:pt x="2851" y="0"/>
                </a:cubicBezTo>
                <a:cubicBezTo>
                  <a:pt x="14780" y="0"/>
                  <a:pt x="24451" y="9670"/>
                  <a:pt x="24451" y="21600"/>
                </a:cubicBezTo>
                <a:lnTo>
                  <a:pt x="2851" y="21600"/>
                </a:lnTo>
                <a:lnTo>
                  <a:pt x="-1" y="188"/>
                </a:lnTo>
                <a:close/>
              </a:path>
            </a:pathLst>
          </a:custGeom>
          <a:noFill/>
          <a:ln cap="rnd" w="12600">
            <a:solidFill>
              <a:srgbClr val="33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911160" y="3073320"/>
            <a:ext cx="4892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The To Date data are used to calculate various process parameters in later PSP versions.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Instructions for PSP0.1 Exercis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93360" y="144792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lvl="1" marL="1144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the PSP0.1 project plan summary instructions for program size (LOC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44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44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d JD’s scenario for assignment 3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44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data from JD’s 3A scenario to complete the program size (LOC) portion of JD’s PSP0.1 plan summar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7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ssage to Remembe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14320" y="1450800"/>
            <a:ext cx="7626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rincipal objective is to measure and estimate the size of the programs that you produce so that you can effectively plan and manage your wor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utorial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his tutorial, you wi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the PSP0.1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now how to use the PSP0.1 process scripts and for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prepared to use PSP0.1 for assignments 2A and 3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0.1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01720" y="1450800"/>
            <a:ext cx="776592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objectives of PSP0.1 are to help you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asure the size of the programs that you produ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ount for types of LOC in the programs that you produ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e accurate and precise size measu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New Process Elemen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23520" y="1450800"/>
            <a:ext cx="78678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79280" indent="-14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are two new process elemen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s improvement proposal (PIP) for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ting and coding standa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9280" indent="-14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roject plan summary has been expanded to include software size measures and the distribution of plan time across phas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0.1 Process Script Exercis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the PSP0.1 process scripts in tables C21 to C24, pages 662-665, and complete the following exercis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fy any new process inputs or outpu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fy the phases and steps that have chang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prepared to discuss the use of the coding standard and process improvement proposal (PIP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0.1 Process Script Addition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additions to the PSP0.1 process scripts include new steps f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ing and reporting software siz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ng development time over planned project pha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a counting and coding standar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rding process problems and improvement idea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cess Improvement Proposal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08200" y="1447920"/>
            <a:ext cx="79675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improve your process, you will need to capture process problems and propose improvements for future referenc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need to kno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problems you have encountered in using the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suggestions you have for process improv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observations and findings from doing the exerci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cess Improvement Proposal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13960" y="1461600"/>
            <a:ext cx="3630600" cy="36846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should complete a PIP form for each exerci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IP holds process improvement information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7880" indent="-279360">
              <a:buClr>
                <a:srgbClr val="ffffff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P nu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7880" indent="-279360">
              <a:buClr>
                <a:srgbClr val="ffffff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 descrip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7880" indent="-279360">
              <a:buClr>
                <a:srgbClr val="ffffff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solu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7880" indent="-279360">
              <a:buClr>
                <a:srgbClr val="ffffff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s and com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5224320" y="1533600"/>
          <a:ext cx="2998800" cy="41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4320" y="1533600"/>
                    <a:ext cx="2998800" cy="4199040"/>
                  </a:xfrm>
                  <a:prstGeom prst="rect">
                    <a:avLst/>
                  </a:prstGeom>
                  <a:ln w="2556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09-22T13:46:59Z</cp:lastPrinted>
  <dcterms:modified xsi:type="dcterms:W3CDTF">2018-09-06T00:16:56Z</dcterms:modified>
  <cp:revision>77</cp:revision>
  <dc:subject/>
  <dc:title>No Slide Title</dc:title>
</cp:coreProperties>
</file>